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move the slide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655C-A3C5-454A-8C5D-A247171BF0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EB8-81FD-4194-9F5A-39BAD568F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563B-1313-485E-B587-EF481594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9073-F7F4-4E2B-B9A5-A870BB35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8FE17D-048D-4752-BEEE-9F34854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BDDDE8-597A-44EE-961F-2ED38B84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60AA72-FD1E-432E-8C48-E58E925F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44D3D7-0F9A-41BD-A9A3-82CD99CC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AE8D56-1A70-4F61-ADAE-1AA7B33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9B030A-4769-48C0-8262-B3804D8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31D2B1-82CB-43F4-9005-1A5140B3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F6ADE6-FAFB-4047-8962-44D82201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F13B3E-0E07-45C0-914B-64BEFBDD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645B01-A3D6-44BC-A6AD-B52BA858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6AB1-5FFC-4F3C-ACCF-37EB3F18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207EFC-DA8B-42C3-AF67-A72F0A32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2ECA77-6C07-41EB-9FE3-39FF438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FE3573-3BF4-451D-870F-4343A21C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AA1E91-6986-4E9D-BF3B-86306BC5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A55351-30E6-4910-BC32-E3C2F50C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12CAD8-9996-4B78-BAF9-15AC2FD0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454A00-D429-4B25-AEDB-EA20DED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01A107-E12E-4975-B75B-D9510627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A332C5-D324-44F2-A4C3-CB11E1D6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BE1804-9A5C-4693-B63F-64AD35A4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E6D0-11D7-426E-A94D-05A41CAF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48EA0F-C282-4209-AF08-3C86D982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AAB8E9-6C34-4D45-B165-13363365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09B471-6ED9-4B65-9359-91BB81E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2D4EB5-C00D-4391-BA3C-ACBE1D02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9F31E1-180E-45CA-9020-C60BA1C1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F2E265-AF35-4DF3-B999-8DE12F13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628E8E-0DFC-4696-8C60-5C5F69F9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9204A9-8489-4F66-BBB1-3E9365B3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960A1D-6C02-4F1C-A67A-5291E8B8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A5573A-BA48-4FB5-9238-B3F3E65C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35BA-A339-4BA6-997B-B1248273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2C0ED1-D30C-4761-89BA-24ECB37C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C9626A-3403-4A2A-88A0-5EA51D95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55D2A-ED7D-427E-93D0-D0A833AA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31533F-7F15-4D2A-BCE5-F890DE2B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E9652F-5B55-4A4F-8A2C-48FBD3F0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194A32-8997-47A7-8233-C03BAB1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FC2CBB-1FF7-475D-9235-E82A58E2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792E6F-DCC3-43C2-B526-2CB6088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00AFA7-E757-46A1-8445-74E23552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31BDD5-463E-4BC6-B42C-4944CFB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B104-4200-4886-ABEC-D91A9B2E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E24956-0368-42A9-B4F7-48390C6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21E17E-E404-4660-B119-7555A9D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CFB33E-EC53-4C3C-B69B-F8F1FFD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615ED3-B283-42AC-B7A2-EC12BEEA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A9D99F-8DE4-4E95-B329-7B08FB2F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A1DB-AAC8-489B-8CCC-B0044431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EF62-C254-4390-AA7C-202C0ADF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656C-3EC0-4EE7-A867-0028E483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8B4B-198D-4865-BB40-5E468E61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EF73-C83C-4DA8-9204-CDBBF16F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5A66-F76D-4841-B023-1BC95023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A44D-9A26-4AED-8B32-E8550D74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24C0-29EF-46AF-B599-8A3CCCBB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D71B-B83E-4C1B-857E-1E4D8523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530D-DF65-4460-AB92-0B200E12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B7A3-13F1-46CD-BD2C-206622EA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E2D01-C749-49F3-89DA-8F5AFF4F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698C1-2782-4CEC-9517-6372976E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1FD10-2250-484F-9307-EE32599C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2835D-813F-4DE6-8DB8-42AEE7A4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59863-794B-4D73-BE36-4892CBB6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A989-88EA-469D-9C34-C3185BCB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E4870-4532-4D39-B914-97B3BF46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D7156-B154-4105-988A-5951365B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21A76-1E38-4D01-BD6F-52D053CB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57910-623A-41C9-9460-ACDEE5F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DE6A7-DCB8-4E67-908B-C3F8F206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A8FA0-7EF3-41E3-A19D-BB952EB3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65CEB-47B8-4E79-AF84-965122DC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0561B-3CCE-4F9F-AC60-879370B4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36097-0611-4DD8-9385-C619912D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E0716-9897-47A7-8A43-DA81A24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DD26-6FEB-4828-9274-D9460D71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4BE17-1271-4B6A-BD14-9969C714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C7881-91C7-4C81-B47C-F21003F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96D49-10C6-40F4-8774-0CE92D65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86B42-9DA5-421E-AC9B-87BAB1BB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266DD-5661-4521-B10B-50C29978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226E5-32AD-4C19-8479-38EB7342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0F520-B86E-4C34-9954-7FE5E63E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8F9F6-10DA-4A75-9A25-C9499DD3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88F25-C382-4D02-BCA0-87C696A0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D357E-0ECE-495D-9D0D-4BF8D1F4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1BD4-F830-4FA0-ADB8-7D8B1F94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0BDE4-A736-4CDD-8A3B-7A7F962A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59976-94FD-4A51-8FCF-B5C7D8BF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CAF3C-A19B-4D35-AD0E-FD791B42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9BCCE-6BAA-4AB8-B536-618EF72D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68064-222C-4EE4-9FDF-E0349B9A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DC73F-DA45-44E5-BA61-02F7680B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C9A9B-C1EE-4A0F-A69F-C9A2CEC9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EB720-6245-4A2E-81DF-8890CE4D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8B5F7-F2FA-4996-85D9-A53D2929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5EC8C-783A-44AE-B392-826AAA6E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6DD8-6446-4DB5-897E-8BA88378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C4B66-A640-4F6F-9045-6BE2F726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9E8B6-FEF4-4B16-AF93-74D84804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613C8-06E7-4C6A-936C-54078B1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076D4-5E7C-44A1-8EC7-E239DEC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3BA9F-C34A-4DD8-B95C-5B50D6B4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D1013-2CB5-4771-8844-F8514F40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0EFDE-C302-44DC-B826-8EDB0CAC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BB955-7A95-4F77-AE5D-490B89A1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974E8-EC6D-4A7C-BF83-EFFA756C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9FEF8-4F48-4E3B-BA9D-79AA00B6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CBE5-0D82-42E2-AA6D-79ED695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E074A-F063-49C9-B55A-D548370F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77C5A-14B6-4E76-B40F-4E6AE434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51C5E-ED98-4DA0-A7CB-765937EB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535BE-E2F4-4F1B-A306-2C9EFF31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29316-1735-443C-8A54-BE8406B2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86392-7224-42C7-B668-5516CF11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5693E-709D-4F60-A608-B19960FD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4480C-AD02-424D-A815-7227FF12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29278-92B9-4F1C-8975-247ED28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8DF2C-11BB-4403-814C-16D1E9C9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0F01-E6D5-41EC-BA44-B3ACAEF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C3D3B-B92D-44A8-9166-6E7A9FC1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36F41-DE19-4F8D-B8AB-424E6A47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F8BD2-F0F7-4254-9FED-1FA70871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4441E-D804-44D0-A970-B96AEB99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FC09D-8B02-44A4-AF30-C589175F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1663D9-E42F-4072-A85D-AAC8B2DA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C3370-B3D1-492D-B5D9-BF38EE4E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5DEF8-80F3-48F5-A68C-2200B1E4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5F1D7C-29B8-439E-807F-61169DAE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4E83C-B93B-4C7D-86F2-BBB81B1B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5ECB-6B96-4E9C-87E4-8536C639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907640" y="260280"/>
            <a:ext cx="66884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961234-5C4D-4816-935B-94DADA74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715397-FBA5-41E8-A199-0804A43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2B87FC-5B64-4071-84AF-52A425B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90A53A-556D-41CC-A2C6-98CA7BC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907640" y="3908160"/>
            <a:ext cx="6688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7E70F-7051-4DD1-B74F-08FBABC9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34840" y="148428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9076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4840" y="3908160"/>
            <a:ext cx="32637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FC0EF-B8D1-4A20-94E0-A43CA80A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916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0680" y="148428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90764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16916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0680" y="3908160"/>
            <a:ext cx="21535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2B97C3-2150-466A-80DA-8D94D804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3D84D3-698F-4692-9B51-7A3B2904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DDF486-CF56-40FD-A86F-77348E97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8424F0-4FD4-499D-B155-1C517F5E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LUTEX-logo"/>
          <p:cNvPicPr/>
          <p:nvPr/>
        </p:nvPicPr>
        <p:blipFill>
          <a:blip r:embed="rId3"/>
          <a:stretch/>
        </p:blipFill>
        <p:spPr>
          <a:xfrm>
            <a:off x="179280" y="260280"/>
            <a:ext cx="1368360" cy="595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oppi"/>
          <p:cNvPicPr/>
          <p:nvPr/>
        </p:nvPicPr>
        <p:blipFill>
          <a:blip r:embed="rId4"/>
          <a:stretch/>
        </p:blipFill>
        <p:spPr>
          <a:xfrm>
            <a:off x="179280" y="4508640"/>
            <a:ext cx="1440000" cy="11728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9966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0" y="1197000"/>
            <a:ext cx="169236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ng. Libuše Fouňová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anažerka klastru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c0039"/>
                </a:solidFill>
                <a:latin typeface="Arial"/>
              </a:rPr>
              <a:t>+420 485 302 101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unova@clutex.cz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LUTEX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klastr technické textilie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jezu 525/4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0 0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Liberec 1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1692360" y="189000"/>
            <a:ext cx="7272360" cy="6121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EF3E-D1BB-4CCB-B8CF-7FD5DB4BEF2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8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9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AC6F-C469-44EA-A138-56C771573E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dt" idx="30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31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32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B13B-DF83-4447-A21C-CC15B83CA2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dt" idx="33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34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35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41EF-C691-4B0B-BAB9-54F080B6BD1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dt" idx="36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716360" y="260280"/>
            <a:ext cx="4284720" cy="8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LUTEX-logo"/>
          <p:cNvPicPr/>
          <p:nvPr/>
        </p:nvPicPr>
        <p:blipFill>
          <a:blip r:embed="rId4"/>
          <a:stretch/>
        </p:blipFill>
        <p:spPr>
          <a:xfrm>
            <a:off x="395280" y="260280"/>
            <a:ext cx="4033800" cy="1752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9966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791E-5E1D-4E42-98D9-475F91D557E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07AF-E864-4794-B6E0-512FF3D31A0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0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8DCA-BA03-41AB-94ED-67B7AC06C77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dt" idx="12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3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4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8FAE-4767-46EA-BE9F-0A0018E066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dt" idx="15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6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B7D1-1B9C-4FC6-B3B9-FA80BB553A0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18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9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0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4A5D-EEFE-4BCA-ABE7-5D409285226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dt" idx="21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2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5BA6-A71E-4957-8B73-0695306CCDE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24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907640" y="148428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5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6"/>
          </p:nvPr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FCFB-B76C-44BE-9C30-C3F1225C519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dt" idx="27"/>
          </p:nvPr>
        </p:nvSpPr>
        <p:spPr>
          <a:xfrm>
            <a:off x="-360" y="64008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A734-72AF-4E16-A273-6CE0E7CDC33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55280" y="2349000"/>
            <a:ext cx="7620120" cy="1552680"/>
          </a:xfrm>
          <a:prstGeom prst="rect">
            <a:avLst/>
          </a:prstGeom>
          <a:solidFill>
            <a:srgbClr val="ffffff">
              <a:alpha val="85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 u="sng">
                <a:solidFill>
                  <a:srgbClr val="000000"/>
                </a:solidFill>
                <a:uFillTx/>
                <a:latin typeface="Arial"/>
              </a:rPr>
              <a:t>Projekt Trans_for_Tex</a:t>
            </a:r>
            <a:endParaRPr b="0" lang="en-US" sz="48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411280" y="414972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entace -  26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Zástupný symbol pro číslo snímku 4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FFB0-4B49-46A7-963F-F2490BCD876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7640" y="127620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c0039"/>
                </a:solidFill>
                <a:uFillTx/>
                <a:latin typeface="Arial"/>
              </a:rPr>
              <a:t>Základní informace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856880" y="2289240"/>
            <a:ext cx="668844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gram : Vzdělávání pro konkurenceschopnost, žadatel FT TU v Liber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 projektu : transformace studijních programů směrem ke zvýšení mezioborového uplatnění absolven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vání projektu: 1.5.2009 – 31.3.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klastru : 1 832 tis. K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číslo snímku 4"/>
          <p:cNvSpPr/>
          <p:nvPr/>
        </p:nvSpPr>
        <p:spPr>
          <a:xfrm>
            <a:off x="6948360" y="71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589D-4787-4971-88CC-070B919A7F6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7640" y="974520"/>
            <a:ext cx="668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8c0039"/>
                </a:solidFill>
                <a:uFillTx/>
                <a:latin typeface="Arial"/>
              </a:rPr>
              <a:t>Zapojení klastru do aktivit projektu</a:t>
            </a:r>
            <a:endParaRPr b="0" lang="en-US" sz="32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07640" y="219852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ytická část – dotazníky, ankety,individuální jednání ve firmách,oslovení středních š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pojení s výrobní sférou – kontakty,monitoring situace na trhu práce,zapojení odborníků do přípravy studijních plá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ularizace oboru, propagace FT TU v Liber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4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EE76-3496-4E61-877B-52A6D277403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07640" y="113652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8c0039"/>
                </a:solidFill>
                <a:uFillTx/>
                <a:latin typeface="Arial"/>
              </a:rPr>
              <a:t>Nejbližší kroky klastru v projektu</a:t>
            </a:r>
            <a:endParaRPr b="0" lang="en-US" sz="32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07640" y="236052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orkshopy (26.5. a 30.6.2009) – seznámení s projek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tazník/anketa – počet uplatněných absolventů, požadavky na profil absol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viduální jednání ve firmách TOP ČR – upřesnění návrhů z ank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Zástupný symbol pro číslo snímku 4"/>
          <p:cNvSpPr/>
          <p:nvPr/>
        </p:nvSpPr>
        <p:spPr>
          <a:xfrm>
            <a:off x="6948360" y="71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57D5-38C3-472A-8270-B92885E210A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07640" y="974520"/>
            <a:ext cx="668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c0039"/>
                </a:solidFill>
                <a:uFillTx/>
                <a:latin typeface="Arial"/>
              </a:rPr>
              <a:t>Diskuse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907640" y="219852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žnosti zapojení do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žnosti využit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pokládané příno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 pro FT 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firmy TOP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Zástupný symbol pro číslo snímku 4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0AB1-3AB9-403B-A23C-C79AC087562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907640" y="922320"/>
            <a:ext cx="668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c0039"/>
                </a:solidFill>
                <a:uFillTx/>
                <a:latin typeface="Arial"/>
              </a:rPr>
              <a:t>Kontakty</a:t>
            </a:r>
            <a:endParaRPr b="0" lang="en-US" sz="3600" spc="-1" strike="noStrike" u="sng">
              <a:solidFill>
                <a:srgbClr val="8c0039"/>
              </a:solidFill>
              <a:uFillTx/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907640" y="2146320"/>
            <a:ext cx="668844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uše Fouňová, CLUT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.tex@centrum.cz   nebo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unova@clutex.c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loš B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ran@clutex.c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roslav Martin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tinec@svitap.c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13:07Z</dcterms:created>
  <dc:creator>beran</dc:creator>
  <dc:description/>
  <dc:language>en-US</dc:language>
  <cp:lastModifiedBy>Uživatel</cp:lastModifiedBy>
  <dcterms:modified xsi:type="dcterms:W3CDTF">2009-08-18T09:03:14Z</dcterms:modified>
  <cp:revision>12</cp:revision>
  <dc:subject/>
  <dc:title>Snímek 1</dc:title>
</cp:coreProperties>
</file>