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4760" y="685440"/>
            <a:ext cx="4848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8ABC-E086-46F2-B655-C394F0C8FA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A4D4-B523-4280-B7B4-3B4E0BC8D6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004760" y="685800"/>
            <a:ext cx="484848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84B8-A7E9-4127-8B6E-596BDA8E44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04760" y="685800"/>
            <a:ext cx="484848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6406-1CF9-4D1B-97BF-5E9538287B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004760" y="685800"/>
            <a:ext cx="484848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3E28-71DC-4B3E-9009-D25C5F7E953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004760" y="685800"/>
            <a:ext cx="484848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1BB6-494F-4800-B09B-36A5FB05AF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004760" y="685800"/>
            <a:ext cx="48484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74DB-84FA-425B-9A8C-497EA2369E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04760" y="685800"/>
            <a:ext cx="484848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5F4-622F-4062-A19D-18AE9BF4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49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496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496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893-B2DE-429F-94D5-DA8E07D3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49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9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960" y="1763640"/>
            <a:ext cx="46969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9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960" y="4370760"/>
            <a:ext cx="46969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435-3CC5-4286-A5D5-977218F2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49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8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9000" y="1763640"/>
            <a:ext cx="30988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3400" y="1763640"/>
            <a:ext cx="30988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8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9000" y="4370760"/>
            <a:ext cx="30988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3400" y="4370760"/>
            <a:ext cx="30988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18C-D1E7-47A4-9E8A-7A2CE308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49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49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0BC-EB16-458F-9601-80BCDC8E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49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496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779-BCE6-466D-9706-0D04BF47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49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9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960" y="1763640"/>
            <a:ext cx="46969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493-BE83-43DC-B00A-DE7C303C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49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82B-87EE-4520-8FD0-911B76C5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49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D10-3B5F-4890-B181-8A24AF2D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49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9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960" y="1763640"/>
            <a:ext cx="46969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9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39D-E273-49DC-ABCA-9DD6047E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49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9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960" y="1763640"/>
            <a:ext cx="46969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960" y="4370760"/>
            <a:ext cx="46969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776-682D-4B1C-950B-1B671E4B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49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9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960" y="1763640"/>
            <a:ext cx="46969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496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60EB-089B-4E0D-B7F0-989790EC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49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496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408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4360" y="6885000"/>
            <a:ext cx="338472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440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CDCA-15AE-47E9-95F8-B75A5406401E}" type="slidenum">
              <a:rPr b="0" lang="cs-CZ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93640" y="334764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106720" y="1836720"/>
            <a:ext cx="7569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3600" spc="-1" strike="noStrike">
                <a:solidFill>
                  <a:srgbClr val="c38e39"/>
                </a:solidFill>
                <a:latin typeface="Arial"/>
              </a:rPr>
              <a:t>TRANFORMACE STUDIJNÍCH PROGRAMŮ FAKULTY TEXTIL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394000" y="5797440"/>
            <a:ext cx="70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5.6.2010 Liber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59080" y="899640"/>
            <a:ext cx="3095280" cy="57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2800" spc="-1" strike="noStrike">
                <a:solidFill>
                  <a:srgbClr val="c38e39"/>
                </a:solidFill>
                <a:latin typeface="Arial"/>
              </a:rPr>
              <a:t>Obsah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530360" y="2556000"/>
            <a:ext cx="295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2800" spc="-1" strike="noStrike">
                <a:solidFill>
                  <a:srgbClr val="c38e39"/>
                </a:solidFill>
                <a:latin typeface="Arial"/>
              </a:rPr>
              <a:t>Cí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243080" y="3060720"/>
            <a:ext cx="8569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ferenciace studijních programů po obsahové i formální stránce s přihlédnutím k potřebám evropských odběratel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ovace systémů sledování potřeb trhu práce pro absolven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cionalizace a diversifikace forem výuky; modernizace didaktických met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voj organizačního a technického zabezpeč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voj kompetencí akademických pracovník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voj spolupráce se zahraničními vzdělávacími a vědeckými instituce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pagace a popularizace obo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386000" y="1547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jekt je zaměřen na transformaci studijních programů Fakulty textilní směrem ke zvýšení mezioborového aspektu uplatnění absolvent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8720" y="971640"/>
            <a:ext cx="8856360" cy="57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2800" spc="-1" strike="noStrike">
                <a:solidFill>
                  <a:srgbClr val="c38e39"/>
                </a:solidFill>
                <a:latin typeface="Arial"/>
              </a:rPr>
              <a:t>Hlavní aktivit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530360" y="5508720"/>
            <a:ext cx="345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2800" spc="-1" strike="noStrike">
                <a:solidFill>
                  <a:srgbClr val="c38e39"/>
                </a:solidFill>
                <a:latin typeface="Arial"/>
              </a:rPr>
              <a:t>Realizáto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459080" y="1547640"/>
            <a:ext cx="85690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tické čin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pojení s výrobní sfér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 studijních program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dernizace didaktických met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ganizace a realizace výu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pularizace oboru, propagace 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601640" y="3997440"/>
            <a:ext cx="842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ledkem je proškolení cílové skupiny, zvýšení zájmu o studium, zkvalitnění pedagogického procesu, zvýšení flexibility studentů. Cílovou skupinou jsou studenti bakalářského, magisterského a doktorského studia, zájemci o studium a pracovníci Fakulty textil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530360" y="6246720"/>
            <a:ext cx="302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chnická univerzita v Liber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akulta textil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udentská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60 01 Liberec I - Staré mě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c38e39"/>
                </a:solidFill>
                <a:latin typeface="Arial"/>
              </a:rPr>
              <a:t>http://www.ft.tul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851440" y="6156360"/>
            <a:ext cx="395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LUTEX - klastr technické textilie, o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Jezu 525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60 01 Liberec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www.clutex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5923080" y="5437080"/>
            <a:ext cx="31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2800" spc="-1" strike="noStrike">
                <a:solidFill>
                  <a:srgbClr val="c38e39"/>
                </a:solidFill>
                <a:latin typeface="Arial"/>
              </a:rPr>
              <a:t>Partne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30000" y="899640"/>
            <a:ext cx="8209080" cy="57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2800" spc="-1" strike="noStrike">
                <a:solidFill>
                  <a:srgbClr val="c38e39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067440" y="1476360"/>
            <a:ext cx="266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g. Jakub Hrůza, Ph.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mail: jakub.hruza@tul.c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l.: +420 48 535 32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1530360" y="1332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2000" spc="-1" strike="noStrike">
                <a:solidFill>
                  <a:srgbClr val="c38e39"/>
                </a:solidFill>
                <a:latin typeface="Arial"/>
              </a:rPr>
              <a:t>Hlavní manaž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530360" y="2484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2000" spc="-1" strike="noStrike">
                <a:solidFill>
                  <a:srgbClr val="c38e39"/>
                </a:solidFill>
                <a:latin typeface="Arial"/>
              </a:rPr>
              <a:t>Finanční a personální manaž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1530360" y="34210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2000" spc="-1" strike="noStrike">
                <a:solidFill>
                  <a:srgbClr val="c38e39"/>
                </a:solidFill>
                <a:latin typeface="Arial"/>
              </a:rPr>
              <a:t>Manažer publ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6067440" y="2595600"/>
            <a:ext cx="316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g. Jaroslava Militk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mail: jaroslava.militka@tul.c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l.: +420 48 535 324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6067440" y="356400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g. Maroš Tunák, Ph.D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mail: maros.tunak@tul.c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l.: +420 48 535 346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1530360" y="44290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2000" spc="-1" strike="noStrike">
                <a:solidFill>
                  <a:srgbClr val="c38e39"/>
                </a:solidFill>
                <a:latin typeface="Arial"/>
              </a:rPr>
              <a:t>Manažer vzdělávací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6067440" y="4627440"/>
            <a:ext cx="3456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Vladimír Bajzí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c. Ing. Antonín Havelka, CS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c. Dr. Ing. Dana Křemenáková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c. Ing. Lenka Martinová, CS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f. Ing. Jiří Militký, CS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Renata Štorová, CS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c. Ing. Jakub Wiener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c. Ing. Jarmila Vaněčková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c. Svatoslav Krotký, ak.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f. Sayed Ibrahim, CS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0000" y="899640"/>
            <a:ext cx="8209080" cy="57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2800" spc="-1" strike="noStrike">
                <a:solidFill>
                  <a:srgbClr val="c38e39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530360" y="2279520"/>
            <a:ext cx="410220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2000" spc="-1" strike="noStrike">
                <a:solidFill>
                  <a:srgbClr val="c38e39"/>
                </a:solidFill>
                <a:latin typeface="Arial"/>
              </a:rPr>
              <a:t>Lektor vzdělávací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2000" spc="-1" strike="noStrike">
                <a:solidFill>
                  <a:srgbClr val="c38e39"/>
                </a:solidFill>
                <a:latin typeface="Arial"/>
              </a:rPr>
              <a:t>Kontaktní osoba pro styk s průmyslovými pod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067440" y="1476360"/>
            <a:ext cx="3456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Jana Drašarov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Jindra Porkertová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Eva Moučková, Ph.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Renáta Nemčoková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Jana Čandová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Ludmila Fridrichová, Ph.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Jiří Chaloupek, Ph.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Larysa Ocheret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ěra Studená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rtina Nejezchlebová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Gabriela Krupinc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98360" y="3348000"/>
            <a:ext cx="554364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cs-CZ" sz="3600" spc="-1" strike="noStrike">
                <a:solidFill>
                  <a:srgbClr val="c38e39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2:26:04Z</dcterms:created>
  <dc:creator>Maroš Tunák</dc:creator>
  <dc:description/>
  <dc:language>en-US</dc:language>
  <cp:lastModifiedBy>beran</cp:lastModifiedBy>
  <dcterms:modified xsi:type="dcterms:W3CDTF">2010-06-15T13:12:26Z</dcterms:modified>
  <cp:revision>49</cp:revision>
  <dc:subject/>
  <dc:title>Snímek 1</dc:title>
</cp:coreProperties>
</file>